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71618"/>
        <c:axId val="49273725"/>
      </c:barChart>
      <c:catAx>
        <c:axId val="980716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73725"/>
        <c:crosses val="autoZero"/>
        <c:auto val="1"/>
        <c:lblAlgn val="ctr"/>
        <c:lblOffset val="100"/>
        <c:noMultiLvlLbl val="0"/>
      </c:catAx>
      <c:valAx>
        <c:axId val="492737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716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05DA-E96C-424C-8FED-4FCFFF729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E011-069F-49AC-86B6-538B4B24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56F3-FDB0-4C2E-92CB-070AED4E9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ED4-E991-4C83-9B38-BB7663E61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BD2A-F5FE-4255-BC21-56EDC1E1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13C-222E-41E7-A366-AD1F53E4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BE87-D4FB-4AC4-A24F-B91C0A7C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7D2-5384-4471-A392-5051F7411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A8D2-BC03-40CA-932B-D000FDC7C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56F7-8ACE-4D07-9825-2EE18E16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86CE-54B4-43DB-82D9-2BF1BAB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D917-C883-4220-9EA4-6664D899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3BE18-162E-4042-8073-A24A447242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