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89031"/>
        <c:axId val="73993788"/>
      </c:barChart>
      <c:catAx>
        <c:axId val="79889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93788"/>
        <c:crosses val="autoZero"/>
        <c:auto val="1"/>
        <c:lblAlgn val="ctr"/>
        <c:lblOffset val="100"/>
        <c:noMultiLvlLbl val="0"/>
      </c:catAx>
      <c:valAx>
        <c:axId val="73993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89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CF35-28CC-4BBA-8188-FEB0307B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3B9-57EA-423F-859F-FDCBFB6D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B2E-BD93-4B82-A845-21F734FA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F18-E139-4F12-905F-3BC8B700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26E-A5A8-485E-91A3-BD438D09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2A8-73A7-40D6-97C3-B95DC2A5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412-2501-414B-8082-046AFCB0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59F-852D-42CE-8B43-6D9CA59C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99D-1025-4922-BBDF-67B65BBD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611-D508-401E-BC62-92C26770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854-82DE-4867-97CF-68856860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D67-E5C9-4231-B564-8F747272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CA583-16EE-49DC-81DE-075934E282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