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004943"/>
        <c:axId val="34355811"/>
      </c:barChart>
      <c:catAx>
        <c:axId val="360049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355811"/>
        <c:crosses val="autoZero"/>
        <c:auto val="1"/>
        <c:lblAlgn val="ctr"/>
        <c:lblOffset val="100"/>
        <c:noMultiLvlLbl val="0"/>
      </c:catAx>
      <c:valAx>
        <c:axId val="343558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0049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98BD-9E37-46E5-929E-C1BA62785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C5C2-8558-4B00-AF81-566058685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C4B4-CC2B-40A9-BEA2-93E3EF205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31F9-EEC8-495C-A404-E8469D7C4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BE7E-FF68-4B45-9D0D-802C53532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DE96-7105-421C-8AF2-BD97BA4E0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AF7D-D635-41B7-A51A-E38CBCA2A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E9EB-9094-48DD-BD88-16DB0560C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DA49-4102-4632-8A06-BF7BA0E94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C066-8B41-4DB3-A6E1-5545A526C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440C-956A-4E5B-A2DF-3683DA3B8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C06F-EF75-4F2A-B1D4-BB6C2A4A3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8F84A4-C5C1-4F45-BA4E-28ECDC628C8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