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86305"/>
        <c:axId val="65125167"/>
      </c:barChart>
      <c:catAx>
        <c:axId val="85986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25167"/>
        <c:crosses val="autoZero"/>
        <c:auto val="1"/>
        <c:lblAlgn val="ctr"/>
        <c:lblOffset val="100"/>
        <c:noMultiLvlLbl val="0"/>
      </c:catAx>
      <c:valAx>
        <c:axId val="65125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86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712-4AB0-48A7-8E58-7C4ADAD3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EC2-C434-4C3A-AB0D-76CBAD2A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FEB-645A-452D-BCAE-EFDFFD82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166-D064-457C-87C3-0F610A87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CC6-D51B-490F-9172-4BA28A97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23D-DFA6-4746-B880-F106F43C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612-EB44-43A9-83C0-839C3077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C73-D3A7-4FAD-987D-C9325812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BCC-D7C2-47E1-A2AB-2323297B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024-E100-4575-A7C5-3D8EACAE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3DF-182F-44C6-90C2-25021CC0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AE9-8480-470D-A4C6-9EE9F354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F9EFB-52B1-4325-AF4F-6824DDD2C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