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987790"/>
        <c:axId val="59638440"/>
      </c:barChart>
      <c:catAx>
        <c:axId val="499877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38440"/>
        <c:crosses val="autoZero"/>
        <c:auto val="1"/>
        <c:lblAlgn val="ctr"/>
        <c:lblOffset val="100"/>
        <c:noMultiLvlLbl val="0"/>
      </c:catAx>
      <c:valAx>
        <c:axId val="596384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877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D552-5E29-4983-8AAD-F7FA64A5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6087-F537-409B-BA13-088653DF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AA18-FE09-4501-923A-230886B9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06D7-C529-43B0-B969-109A343F4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ABAB-0A45-4A85-A3EC-926F6D44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BB38-6A98-46A1-9997-96AFA72F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CB31-04EE-41CF-AD3E-B70A0EA0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9330-3FFB-4ECE-B749-13A72009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E687-5218-4C70-BCE9-83945893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F609-EDC6-4A01-A447-385DF3AD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9D44-4A27-47AE-9BD0-DA0A7655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1982-4E4C-45FA-B22D-7470188F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BDBBF-47ED-485D-84D0-784DED59A2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