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75146"/>
        <c:axId val="90998925"/>
      </c:barChart>
      <c:catAx>
        <c:axId val="78475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98925"/>
        <c:crosses val="autoZero"/>
        <c:auto val="1"/>
        <c:lblAlgn val="ctr"/>
        <c:lblOffset val="100"/>
        <c:noMultiLvlLbl val="0"/>
      </c:catAx>
      <c:valAx>
        <c:axId val="90998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75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B26-CE30-49DD-AA84-08272BF9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E25-18ED-4DDF-967D-B0028F27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31C-7C63-43AC-90F5-086CAA6F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5CF-A37E-4A8E-9E53-C79BF0C5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922-634D-4443-9C2A-7A6DDFCE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090-EB23-4BDC-A2DC-A6CD6ED9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B83-171A-4917-85B2-4BC76A0C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FD0-243A-4E79-AAE7-52F6AC9A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337-A4ED-4177-8C54-C78DBB9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299-6579-4736-A7AC-0E60F8C2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770-4F68-4506-9653-7C69533D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A6F-07DF-4F12-BF4C-92AE967B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00DA2-E69C-4890-A646-4B52BCBB1C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